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8C-D77A-440C-855B-E9922A37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E3A-093E-4A8B-8323-8FEDAEAD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064-9AD0-4F9D-800D-0A0C814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A06-5803-4B97-AF84-364B752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96E-E65B-4514-83E6-78C6BE7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A26-3746-46B8-B904-AECEB24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298-3B85-43C6-936D-ACB31C1F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38B-1589-4078-8267-1E39095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EF5-52B9-4DE5-9D9C-4328D2B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5AE-9E31-4601-8BAA-0FF92E6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A11-45DF-4EE7-9ADD-4BB31B1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3B0-CADC-4D72-AB25-D3F4DC7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0784-2D2B-4679-AB68-0FB5404D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3" descr=""/>
          <p:cNvPicPr/>
          <p:nvPr/>
        </p:nvPicPr>
        <p:blipFill>
          <a:blip r:embed="rId1"/>
          <a:stretch/>
        </p:blipFill>
        <p:spPr>
          <a:xfrm>
            <a:off x="603360" y="152280"/>
            <a:ext cx="8205840" cy="340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032_"/>
          <p:cNvPicPr/>
          <p:nvPr/>
        </p:nvPicPr>
        <p:blipFill>
          <a:blip r:embed="rId2"/>
          <a:stretch/>
        </p:blipFill>
        <p:spPr>
          <a:xfrm>
            <a:off x="3733920" y="3124080"/>
            <a:ext cx="205740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219320" y="5257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per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na criad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eng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 mi casa.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795680" y="563868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 necesari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lguien l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mpi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33360" y="601992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ud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ngamo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astante dinero. </a:t>
            </a:r>
            <a:r>
              <a:rPr b="1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5"/>
          <p:cNvSpPr/>
          <p:nvPr/>
        </p:nvSpPr>
        <p:spPr>
          <a:xfrm>
            <a:off x="1618560" y="152280"/>
            <a:ext cx="597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 importante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tede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cuerd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Formación del Subjuntivo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3429000"/>
          <a:ext cx="6629400" cy="27432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600200"/>
                <a:gridCol w="19047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a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a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e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i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i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ú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l, ella, Ud.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los, ellas, Uds.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185"/>
          <p:cNvSpPr/>
          <p:nvPr/>
        </p:nvSpPr>
        <p:spPr>
          <a:xfrm>
            <a:off x="1163880" y="1066680"/>
            <a:ext cx="6820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 u="sng">
                <a:solidFill>
                  <a:srgbClr val="000000"/>
                </a:solidFill>
                <a:uFillTx/>
                <a:latin typeface="Arial"/>
              </a:rPr>
              <a:t>Es necesario que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empiecen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con “yo” en el presente indicativo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Por ejemplo: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cantar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          canto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aquen el -o y añadan el vocal opuesto (-ar       e;  -er/-ir        a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s necesario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que yo cant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Line 186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190"/>
          <p:cNvSpPr/>
          <p:nvPr/>
        </p:nvSpPr>
        <p:spPr>
          <a:xfrm>
            <a:off x="2218320" y="6324480"/>
            <a:ext cx="42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pero qu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p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cer el subjuntivo!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necesario que usen todos los cambios del presente en la forma y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2120"/>
            <a:ext cx="2362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425400" y="1231920"/>
            <a:ext cx="517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bos con cambios radi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e   perd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a, etc.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 ped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, etc.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e dorm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e jug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640" y="2560680"/>
            <a:ext cx="271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o verbs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í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i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n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n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l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145880" y="914400"/>
            <a:ext cx="447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 los verbos irregula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é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y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os Usos</a:t>
            </a:r>
            <a:br>
              <a:rPr sz="3200"/>
            </a:b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10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Quiero que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siempre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usen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l subjuntivo en estes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W.E.D.D.I.N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orgi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ishing, Wanting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ear que…, quere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motion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rar que…, alegrarse que,…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oubt, Denial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udar que…, Nega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belief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ree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mpersonal Expression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 importante que…, Es necesario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gation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hay nadie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d Grant: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jalá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M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pr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-34200" y="1371600"/>
            <a:ext cx="927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ero que ella ____________(escribir) la tarea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necesario que los estudiantes ____________(estudi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do que nosotros ____________(cenar) hoy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aestra espera que nosotros ___________(termin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adre prohibe que sus hijas __________ (habl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jalá que mi mamá me ____________ (regalar) dinero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reo que Uds. ____________(mentir e-&gt;ie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mejor que mis abuelos me ____________(llam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ro que tú ____________(limpiar) tu cuarto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 le aconsejo a Juan que no __________ (trabajar) tanto.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ro que Cristina no le ________ (contar) la verdad a Carlos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olicía mande que los ladrónes ________ (dejar) del auto.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ra quiere que Juanes le ______ (cantar) una canción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dArt 4" descr=""/>
          <p:cNvPicPr/>
          <p:nvPr/>
        </p:nvPicPr>
        <p:blipFill>
          <a:blip r:embed="rId1"/>
          <a:stretch/>
        </p:blipFill>
        <p:spPr>
          <a:xfrm>
            <a:off x="907920" y="0"/>
            <a:ext cx="721836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42:43Z</dcterms:created>
  <dc:creator>SHS</dc:creator>
  <dc:description/>
  <dc:language>en-US</dc:language>
  <cp:lastModifiedBy>Jessica Kaplan</cp:lastModifiedBy>
  <cp:lastPrinted>2007-11-29T13:16:25Z</cp:lastPrinted>
  <dcterms:modified xsi:type="dcterms:W3CDTF">2012-02-01T13:18:39Z</dcterms:modified>
  <cp:revision>74</cp:revision>
  <dc:subject/>
  <dc:title>PowerPoint Presentation</dc:title>
</cp:coreProperties>
</file>